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5B8-B233-454C-87C2-604E275E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B64-1F88-4BDD-819F-D64464CA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2679-F2ED-4857-BC1A-CA01636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16D9-82B2-4164-B15B-E645360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42232-23F0-4D03-83B4-CB474DB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F98DB-4A95-4CD3-8FA1-5FEAA3FF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31D0-627F-4F14-93CD-07C52F3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B56C5-890E-4A5A-BAD7-FE4F7AC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8B5C-27E6-4107-AC0A-1CA6A247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C5396-2AC4-469E-8155-AC934AE1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A247B-A9B9-49C1-9FBF-26933234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9A54C-0439-429E-BD47-A7B30E43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C65-3523-45A1-83F3-5F20BBD3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33479-F541-4BC1-B681-720F162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069F7-8F18-4A67-BB59-50B10FF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082AC-8B45-4F47-94EC-C8540F5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8A5C1-45CF-4B44-84E2-5D34EA1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D1C16-A808-41B6-B288-577127F6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660CA-4DAB-4145-8916-662B205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53A9B-58BC-4AEC-8831-A0D221A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2624D-5E79-43AA-B966-98ABAA2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9C73B-AE7E-4CB0-890F-D32584AF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BB323-6916-487B-93A0-599FD90A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9F2-6A26-4BB7-B11B-6934BE72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EB945-BB60-46A7-ACA7-F936E111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6BB7-6182-403F-AFD2-D0AE8C29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72B29-D093-4E73-B686-B8B21B1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D4739-CDCB-47D2-A843-A96E6FE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23D1-D231-4583-BC5F-BCC83541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76E1A-8115-4D0D-B07E-4C358889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73EA8-229F-49AD-A501-6F79C07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C094-2F2D-46B9-8366-C9B3D76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D3AF2-59A1-4B4B-AADB-6F6272C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5252E-096A-445B-8EB9-2829775A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79F6-B076-4D5D-8675-4A7E2FEB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7C84-6B14-42C0-BB40-6768801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D16A0-D9CB-4EE5-A21C-E1102FB8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C3D5-8C9C-43E5-99DD-E3945B23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E1A67-36C6-4027-BA62-DD645C0B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5E70A-9EC9-42D4-B15D-6E2CF48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D0D42-9E12-4B2C-BF70-C4ED2293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1C082-F58E-4B92-8165-CC5FB1FF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8A765-4370-4D32-8A4E-0C291C0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4E8ED-BB0D-4469-8435-5A639043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B7D94-DF28-4239-B345-FDE12D1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07A-757B-4EF4-AF69-864DA30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00715-DC86-4B0E-BBA9-652484E2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4FDBA-7F59-4A52-9F1D-CFA3512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5FAEA-7005-436F-BB6F-1FF0A670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5E31D-C1C0-491A-9542-DF1F4F6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AAAC-D27A-43B5-AD9B-0F15F120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9C8D2-6E1D-4F03-817E-EF288470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8EE7A-43AC-4136-940C-EA785AE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C5455-7F2F-43FC-A2D3-9E62B9D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13808-756C-4EFB-9C60-86A1A7E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C276A-8710-4810-8B58-07B9557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342-F4F4-424E-B966-8F8E99A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6854A-62B1-427F-9555-CD0DBDD2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81D00-6296-405D-A3A1-C9EC752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83DB1-8711-4D13-8A33-6E9226F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F3E83-4EE5-4F76-BC69-6698371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B3988-1313-41A1-9F77-8AD2C146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D40AB-DBEC-478C-93F4-B2925C18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96A64-EC36-48B9-91D8-312FF786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1C482-17B2-40B7-8E97-27E97182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F9F8E-56A7-4D3D-9161-2B1F987E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3AE9B-ECF7-429B-B2CE-3C0FEF0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ED27-258E-48FF-91DA-347CCCD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A3639-872B-4A7F-B5DF-8AC2568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95ADD-A58A-45FA-9843-BEBC1D3E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CC17D-73E3-460D-88F7-56344599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87014-338C-4587-9E64-7E200AC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5AF44-CAB8-4223-8ACC-A0BAB0A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0B7B4-97F2-47AF-A8C0-53CD7FA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9D5A0-A990-4F0E-80F5-D0C6802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A2E69-A3E3-49D0-B066-5822D603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CF2D7-0BF9-45C2-B2DE-20047728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683C6-247E-4D93-BB7F-0D53B98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432-8F00-4282-8829-690716DF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C423F-94D4-47F2-8D19-C6C73BF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A1C45-0614-4F6E-8931-A59D51A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AE280-8EC7-44CD-9705-CABC41A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31EF6-E59A-45F8-9FED-AAFECFA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ADE27-E457-45D5-BB91-99938B5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9CBA2-D5C0-4A41-8BAE-38D533F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CAFCE-766B-461F-A178-E9781FF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42214-3F59-4F31-B3A7-31F5A0F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B65D0-4E76-4903-879E-39BA4DBC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07BD4-8F84-4EDD-B061-B5FE0350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28F-6516-4D50-A511-09113C5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A3722-283A-40B6-A9B6-7EA28523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4370D-C142-4354-A881-C46C6353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AECA8-7163-4C6F-82CE-059A323A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D12D1-564E-49AD-857D-7EB3DD9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B2A9F-36F9-448C-89F1-2461F646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3332C-0593-4931-9F64-7B3ABF1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EA6A6-3C0F-488D-9EE2-8304C65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1C6C5-EE44-4F66-A799-6BCF3F4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9D48E-60B4-4A17-8228-D9008B4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BBD3D-09CD-444A-BDC2-EFDB89C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B53-CD5D-4171-887A-16E5870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C6E87-2537-4AC8-B2DD-DDD0EDC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1EF83-FD2F-4DBE-8D15-EC64634B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988B8-7200-4A41-B62F-940C53EE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14A92-0E99-4EE9-BCBE-1380F132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F81AB-E522-4280-9E3A-3E7A6C5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E3BD3-5776-453D-9036-8EE541B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77910-F8A1-415A-8F92-ECDAD74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AEAB3-9C0B-4E3B-A667-A32F922F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09A7F-9D6E-424D-8F6C-322EA7A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F9AEB-E78B-46DE-ABB3-8CC435E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CA1-B711-4D4D-8C67-0C56352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389-9D0E-4D99-806A-1949B03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BB7A6-7FF3-4199-8EB8-768AE985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2BCFE-F2C6-4797-86C9-3ACE381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1AB59-5403-4D53-ABE7-77F032F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3639F-12C4-433C-965D-09107C98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0E669-208C-4D1B-97BD-82D9FE0E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D7C32-14EB-4694-AE9B-1B2149E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65EA5-88D0-4C8D-88B5-E404B10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B00FB-1839-4E04-9E86-820F5E2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B5C68-9E99-4F36-982D-F9CC8FC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01148-A608-4ADE-BA42-38B8AC26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B51-4A1F-4814-A68E-3D046D3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F0C2C-DC68-4A85-8462-94AFEC7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B7EF0-D07C-4F64-863C-05C70E6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2F661-7711-49D4-8A4E-EBA93BA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F56A0-6365-47F4-B95F-68C1FCD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B2C53-6406-4975-B8EA-56FC309A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A58CA-BB7D-4B1F-8C29-A86E917A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0D21B-A65D-415E-81C3-967AD5AC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3EFFB-B122-47FC-8650-C74FE4AD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F8A1A-4700-40BC-963E-E531879C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C2456-C26A-4E41-906F-56D6CDB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C53-6834-41F2-BA95-190D8F57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78B22-4738-4A0A-98F8-721CB59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3BEF9D-F5C3-49A6-929C-A723DD96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0E798-03D2-491B-B5D3-8716C34F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2AB24-9E4D-41B8-84C7-C79BDDB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F6A71-3127-467E-8EDA-C314889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87EB9-E889-4C5F-8E10-052DC53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9DC4A-E7D8-40D2-96D2-0858A27C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DA437-3402-48F9-89E6-47CCB077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CEE3-4237-44DA-879E-4F244FDA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EB8BD-AA37-48EB-8364-6A9A8253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E14-6B79-4EEB-829F-7532C0A0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E9489-9070-4F68-86A8-2D01F4F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1FC88-5708-4D4E-B5A9-EDA72044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42A5D-1719-4D37-86CF-DFB7DEB6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8F50C2-6A4E-4ABA-B318-1E7200D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FD32D-2C9E-4827-A84C-8076935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488E1-AFB5-407F-BB03-DAA3078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116F2-7167-4275-B71B-F4DBE30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6A494-8DA9-44AA-AF5E-33422B3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077AD-824D-416A-9472-5CE3BCB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17A24-01DD-49BF-96AC-5B94404B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B900-E758-4EB7-A235-A4DE1CFA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7C063-C5A5-4293-9E05-BF221B3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E82B4-3395-4D54-9BF6-9D270D08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D6DFE-F325-4B95-993F-7950813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A185D-A454-4548-BE21-C84C5D3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C3399-19FC-4117-A5BB-9113CA1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D1337-57E7-4440-A89F-9D40008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5F09D-1F5E-4D6B-9964-0BC3CC0F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CD539-2B77-40B2-A858-483E6AE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90C69-2F83-420E-AEDB-90DCCA8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066B6-670D-4A9D-BBBC-BCE75A0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2F1C-F7B7-45CF-8AD2-F7FA5976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0F174-817F-4A35-92EF-6892237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83AC4-4331-4E53-8809-F47F1953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DC007-879A-422F-BB18-97DF4F82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8BEB-6E2A-4692-9F33-FB524AA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5541-8844-4622-9CA3-EE0455B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58B9-3CD3-45F8-803D-6659E73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0411-0323-4976-8A5B-C788068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183-BD66-435C-9F0F-0A9065D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05F8-BD8F-4B20-980D-BE3E90B5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2D67-A9A4-409C-A98A-543152E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A33C-E86C-4707-8E83-E1ED712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2C99-17FF-4527-84B5-456DFAE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79E3-CDD0-4425-9296-3864548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ADDB-E97C-4B8C-87DB-7336D063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61A4-83AC-470C-8DBA-941E332F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4690-D3CD-498C-A977-42B1150D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054C-332C-4DF3-89F5-8EA13DF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65BE-7F47-4722-A4D9-46956EA4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FAE-7722-4549-8BDA-7630E49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EDB9-20B0-4781-A1A7-569E75DE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5BD9-7B7D-478B-A6DB-2B574D1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CE53-C636-4FA4-9DB1-B84F3DEB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2757-E005-42D7-9758-93ADFF6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3284-7F53-4CDF-85BB-FDAE6D3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A08E-3DFF-4132-A306-A26EB209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3BD8-8A92-4784-8364-F7CA7D5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810F-366D-4C18-A45E-F053C8F3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B62C-4117-40B9-939B-8F5144A4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40BE-8176-464D-A7A4-29DE9E31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F8D-6F5A-4947-8867-B894C12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C072-A1E3-49C7-AE20-1FDE35A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9C15-24A5-4FC7-AA20-E4E9EBC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17E83-50AA-4EAB-826E-789D7D6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09A4-4B02-4535-861A-868B33A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88C4-988F-409F-B109-7C36DA70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03DE-16AD-4BB7-8D2C-8EFA900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EE50-BD10-4E96-A773-5C64883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FF59-F4D2-42BB-97F5-80B3476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6358-54E7-45E4-82F4-9FC75811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36F4-8CD0-4A5D-9A47-89443453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DAB-9D4B-4FFB-A383-741D957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4240-0B6B-4188-8B18-823C1C71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97AE-E49F-4F31-A895-D941F9F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E6D8-5F3F-4AFE-B824-D12F6452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47D0D-3AE0-4E98-9EAA-40C44E2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B6F4-4334-414E-8E7C-EA395721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D64A6-0E13-4E15-B2C7-130B7EC4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2F1C-8FF9-40EC-93F3-28E06DC4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84AD-78EB-4BD7-862C-C15E389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3D27-D386-42D0-8546-98D5391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5D08-7DE2-4468-807C-2D628DCF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219-A7E7-4B8C-9BFE-90A37C9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E082-C76D-41DC-9485-3C22A959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61F7-4974-4AAC-99E5-B18F9D41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EE7C-8C1C-4E9B-BEDD-BDF9827D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90DB-15FE-42C1-B55A-BF6BEE23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20E6-764E-41E3-955B-2B7608F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0BFD-60B9-4878-8980-5653EE2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87E0-A31B-4021-8604-F37745B6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D2AE-6C31-4E24-8872-ABA83270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7C86E-F927-4848-B335-9A0C056F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89BE-8E8F-4B88-BF1A-27ED861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D6D-0722-4FCE-B0F2-D95DA8D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4386-8A71-4075-9197-8783B2F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AA49-BDFE-4608-8201-92A11D6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3480-3F13-4470-A7DF-0C36723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BF11-028C-47F7-90E9-341A1B06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133C-C45F-428D-9ADA-269D4F85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4384-D12F-4D69-9950-219E2167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A5AB1-5EED-4470-86DD-6364376D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0DC5-ED41-4BEF-B95A-B731066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53D4-82BE-435C-9A03-E3E4D3C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7FA6-6216-4917-A874-E218B37E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4E1-F685-457A-BE99-638CE0B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9C874-7BDF-4425-8E0C-29055EB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8A7B4-FDA6-4C7F-BC08-D4ADE88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774D-FE35-4067-B81B-5A7A9F2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72F5-CA52-45E9-8623-0CCC600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C6DA-DEFC-479C-B8EC-B91C1CC7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A8AA3-09C4-450B-9EE4-3318AC33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8F34-CE46-44A6-8E97-1D581DB2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B0D0-586F-4257-B0A2-F422FC91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2EF7-D1E6-4EEE-B884-7BE60DF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5E052-906C-4654-AEAF-E3D27596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4F7E-C1A3-47A3-93D0-6BA9277A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E70-8108-4F8F-9DB2-82BE5910E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84B-FFDF-490B-89D3-242939219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6085-C270-4F51-A977-11F3330CD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F58-5230-4348-8E85-B9D268177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1FAD-69E5-424C-B733-1E4D5E3FFF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B759-E0B7-4076-BD30-2E46D04DF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9021-E48E-4E85-AE63-D3B2EB4EC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52F1-DEE0-4528-956B-F8CA3FF8B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40CA-E182-4196-AA97-F67D3D85A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DEE3-1A97-4552-8F16-BA8822957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B4A-B227-4A19-9FF8-FA8482A1B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9775-48C3-4587-84CF-3A8A854A4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3CBF-4DD1-40B7-8744-E1343105CF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0E7-CEF9-445B-BBC1-A7DBC0DAB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DC9-265F-4F44-8376-E8253C949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3F3-93D4-4927-B32C-0F0011FCC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182B-CBDC-4B34-AE85-553BB55E5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321-E285-497E-A9FF-E197E66E0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B5F-1F74-4815-939A-B72813785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9B38-DBC6-41BD-923B-71F5C488DC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BBA-DEE1-4B35-9446-E14BA83C2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478-8C05-469F-90DD-8CE1DBDE9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2490-DD25-4910-943D-9EB39D467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A4CB-78A5-4B0C-BE62-F48696291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FCE-650B-4B85-97B9-90427FF0E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62B-AC2F-4795-85C9-6003D7387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EDDD-AD08-4E43-B574-157C6310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480-E16C-4B05-B2D0-4C24B8C35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839-04D2-4415-AA82-9FD14E4D15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EB83-B84B-4FA8-81FC-4A557ACD7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7A9-D6F5-487C-84A1-03A6F5456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72EB-96C2-48B4-A1E9-CB9811FDC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FADB-5220-49B9-8EFE-600722A05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4E4F-75E4-4841-8DC8-16D2FA45BD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441E-9EBB-4D64-873D-41203739B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875-6DD6-4264-9646-64EA81CF5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453D-8310-4DB0-BCA3-508DBBB8A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E47-1417-4A49-B8E7-123E3E4FC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FB6C-F139-48FB-9CC6-54F9A3011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30320" y="3087720"/>
            <a:ext cx="89056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080" y="1886040"/>
            <a:ext cx="9105840" cy="3085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74124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1" descr=""/>
          <p:cNvPicPr/>
          <p:nvPr/>
        </p:nvPicPr>
        <p:blipFill>
          <a:blip r:embed="rId4"/>
          <a:stretch/>
        </p:blipFill>
        <p:spPr>
          <a:xfrm>
            <a:off x="532116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2" descr=""/>
          <p:cNvPicPr/>
          <p:nvPr/>
        </p:nvPicPr>
        <p:blipFill>
          <a:blip r:embed="rId5"/>
          <a:stretch/>
        </p:blipFill>
        <p:spPr>
          <a:xfrm>
            <a:off x="727200" y="4033800"/>
            <a:ext cx="647640" cy="6080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3" descr=""/>
          <p:cNvPicPr/>
          <p:nvPr/>
        </p:nvPicPr>
        <p:blipFill>
          <a:blip r:embed="rId6"/>
          <a:stretch/>
        </p:blipFill>
        <p:spPr>
          <a:xfrm>
            <a:off x="5335560" y="4048200"/>
            <a:ext cx="6476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3800" y="1138320"/>
            <a:ext cx="8096400" cy="458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66640" y="1905120"/>
            <a:ext cx="8008920" cy="3047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4400" y="1123920"/>
            <a:ext cx="9113760" cy="4610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042920" y="3659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85640" y="2600280"/>
            <a:ext cx="8172720" cy="1657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6920" y="2579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32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